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01E-295B-4364-A8C4-43D31E2F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F4A-C119-4AE6-9065-9B0FC955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E3A-7D70-40A4-881D-973DD066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477-E42F-4EB5-BB9E-329D6291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993FD-6188-497C-9034-5BCD2615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E511A-9100-452D-A4EC-4C2E489A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6F24-B65F-48D5-B186-65774FA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86207-38D0-4AC7-9D6D-C1D5492B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0E209-F919-4B8A-A1ED-59452F72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0A507-D3E9-4A89-9377-0FFF2773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5C14D-3C5A-4812-A7AB-E6EAF7B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F41-021D-433A-BB23-508537F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9EB05-68D5-49C0-A93C-74A64D6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060A-A2B4-48BC-87D6-C0E2071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7770B-CBBF-4309-AA45-C1CF162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6928A-B1FE-417D-AD4D-6A1EB2E4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7B611-8F05-48C4-A4BD-393F99EC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059-F66C-4880-AF27-83456A1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CBD-4B98-4F3E-B01F-DA109122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B8D-FCB0-4B67-9665-61E0036B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025-A4C5-40A2-92E4-87DB3CE8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394-C579-4D55-BF21-F062BE2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D99-8632-405D-9E73-7D0C327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8C9-8C67-435F-AB2F-BEE22DC3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065-4A5A-4FCF-BE9F-4AA6773E3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B69-B414-47F8-B3B9-2F4713BCF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ayla tirabass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62320" y="2590920"/>
            <a:ext cx="43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a  Rutina de A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mira en la espejo. Hace muchas cosas mientras en el espejo. Se cepilla el pelo, se cepilla los dientes,y se maqui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53160" y="3429000"/>
            <a:ext cx="1828800" cy="1065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295280" y="68580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irars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acuesta a las diez y media durante la semana. En el fin de semana ella acuesta a las doce. Se duerme en la c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57880" y="3165480"/>
            <a:ext cx="2619360" cy="1589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66680" y="762120"/>
            <a:ext cx="198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ostars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ple Chancery"/>
              </a:rPr>
              <a:t>Durante la semana se despierta</a:t>
            </a:r>
            <a:r>
              <a:rPr b="1" lang="en-US" sz="1600" spc="-1" strike="noStrike">
                <a:solidFill>
                  <a:srgbClr val="ffffff"/>
                </a:solidFill>
                <a:latin typeface="Apple Chancer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pple Chancery"/>
              </a:rPr>
              <a:t>a las seis y media. Ava esta muy cansado. En el fin de semana se despierta a las diez y medi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57880" y="3162240"/>
            <a:ext cx="26193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90720" y="685800"/>
            <a:ext cx="2419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pertars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lava la cara. Ella usa un tipo de jabon espe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7440" y="2766960"/>
            <a:ext cx="1741680" cy="2390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85800" y="685800"/>
            <a:ext cx="21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vars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n burbuja . Ella se lava el pelo con el cham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32400" y="3121200"/>
            <a:ext cx="2468520" cy="167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62120" y="685800"/>
            <a:ext cx="1647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narse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ntique Olive Co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tique Olive Compact"/>
              </a:rPr>
              <a:t>Ava se pone la ropa. Es muy dificil decidir que ponerse. Por lo general ella lleva la camisa y el blue jean. De vez en cuando Ava lleva  pantalones de yog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91240" y="2898720"/>
            <a:ext cx="1952640" cy="212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66680" y="685800"/>
            <a:ext cx="293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nerse la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pple Chancery"/>
              </a:rPr>
              <a:t>Ava se maquilla en los ojos.  Se pone el mascara y lapiz de ojos.  Se toma a las veinte minutos.  Se Mira en el espej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2400" y="3121200"/>
            <a:ext cx="2468520" cy="167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8080" y="685800"/>
            <a:ext cx="22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quillar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cepilla el pelo.El pelo es muy largo y recto. El pelo es mo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02360" y="1905120"/>
            <a:ext cx="292716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38080" y="609480"/>
            <a:ext cx="2657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pillars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desayuna en la cocina. Se desayuna con sus hermanas. Se desayuna el pan tostado. le gusta un pequeno desayu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10400" y="2751120"/>
            <a:ext cx="1715760" cy="242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38080" y="685800"/>
            <a:ext cx="336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sayunars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cepilla los dientes despues se desayuna. Ella usa un tubo de p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13240" y="3192480"/>
            <a:ext cx="2706840" cy="1538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143000" y="533520"/>
            <a:ext cx="3581280" cy="12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l cepillo de dien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32:01Z</dcterms:created>
  <dc:creator>tirabassimik</dc:creator>
  <dc:description/>
  <dc:language>en-US</dc:language>
  <cp:lastModifiedBy>tirabassimik</cp:lastModifiedBy>
  <dcterms:modified xsi:type="dcterms:W3CDTF">2012-04-05T13:21:37Z</dcterms:modified>
  <cp:revision>9</cp:revision>
  <dc:subject/>
  <dc:title>Me Rutina durante la semana </dc:title>
</cp:coreProperties>
</file>